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6FE6-79F7-457D-A465-C0123B79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9C63-7B38-499B-B41B-6B10E479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48F0-DD66-44E9-BFB9-0D2E6902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7815-BF74-4597-BB64-FEE3E823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8DF7-9E75-4BC3-B51A-217178F1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ECA6-A981-4ABF-81C5-634FBB05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53D8-0C72-478E-9392-10006DE9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B213-0D17-4721-9FD0-8FBC2BE0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2091-877F-45C9-932B-267F9FEE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8709-C684-4A29-9AAA-E1AE3E51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BC0E-26BA-4E89-A61D-FBF22CB7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70FD-CC5A-4E40-9EC8-2FA8CA4E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FC39-EA56-415B-AD72-BBD76333C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54006" t="0" r="0" b="50009"/>
          <a:stretch/>
        </p:blipFill>
        <p:spPr>
          <a:xfrm>
            <a:off x="0" y="0"/>
            <a:ext cx="982800" cy="1066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338120"/>
            <a:ext cx="9144000" cy="5519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0" t="23377" r="76500" b="51139"/>
          <a:stretch/>
        </p:blipFill>
        <p:spPr>
          <a:xfrm>
            <a:off x="1219320" y="0"/>
            <a:ext cx="84276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0" t="50009" r="50009" b="0"/>
          <a:stretch/>
        </p:blipFill>
        <p:spPr>
          <a:xfrm>
            <a:off x="2209680" y="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505320" y="0"/>
            <a:ext cx="106668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382760"/>
            <a:ext cx="91440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23377" r="76500" b="51139"/>
          <a:stretch/>
        </p:blipFill>
        <p:spPr>
          <a:xfrm>
            <a:off x="0" y="0"/>
            <a:ext cx="84312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1028880"/>
            <a:ext cx="914400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03:48:20Z</dcterms:created>
  <dc:creator>lucy/laffitte</dc:creator>
  <dc:description/>
  <dc:language>en-US</dc:language>
  <cp:lastModifiedBy>lucy/laffitte</cp:lastModifiedBy>
  <dcterms:modified xsi:type="dcterms:W3CDTF">2011-10-10T02:07:41Z</dcterms:modified>
  <cp:revision>5</cp:revision>
  <dc:subject/>
  <dc:title>PowerPoint Presentation</dc:title>
</cp:coreProperties>
</file>